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C1E7-F4F9-400C-A4B5-07D1E139C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D886-5C62-413A-8F30-EE144747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28D1-5F32-4579-B6A2-E51857819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8D90-F7D8-470A-A6B0-13C28E10C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7EB0-7ABD-468E-B4B1-58C73A06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EE87-5E29-4A03-9A8E-6D1015E7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F626-7615-4DF9-99CD-9D1E8AAB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0061-9E12-402B-B482-2E0E42BE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E3F8-49FA-443C-86EA-71E2E6AC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31BD-29A4-4295-9C87-735C2CC6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08AE-4D89-4004-86FD-331361EB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872B-DC7C-4D85-8EC1-770DDDA7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87F4-7B9C-4955-9713-803012C5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51FE-10ED-42AD-8777-8D504A86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8F28-233D-4CE7-9315-C2909944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0911-CD1B-4459-9F0D-84E7199F2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BE8F-DCF3-4E57-B7AD-85EDD779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C954-CE26-4A7C-AC12-A6B26D31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8A85-F6B0-4D72-A80C-0E3EE8F5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35FE-C230-4420-959C-9126B1D9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2674-6FCF-4C2A-999A-3CF3DF71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56A1-54C8-418A-9B91-E849F653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829F-EADB-4CCE-80D7-A57787D9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51FB-520C-45AF-837C-CCD77E6F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7FDA-02CD-4BC2-A79B-5AE8F8D9117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85C4-410C-4C39-8AA8-D80209EB231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1-01-29T05:53:42Z</dcterms:modified>
  <cp:revision>46</cp:revision>
  <dc:subject/>
  <dc:title>Структура собственных доходов на 2016 год бюджета Дальнереченского городского округа</dc:title>
</cp:coreProperties>
</file>